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C74C-5508-4910-A40A-5A0575EA5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2993-6452-4A69-90C4-0DC3EBE19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BB13-2AC0-4532-9D91-B31AC3C78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C828-5954-47F1-9199-E7FAACC94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4FDE-76B3-4E29-9DFE-48F9535F7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89A8-BD86-4CEE-AC40-94FDC9D20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0663-1F20-4D39-9358-0DD25E203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6A33-64F9-4DAB-BF5E-E6AD146A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781E-FF89-4AEA-8701-657920BE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997F-F7DD-4B26-983A-AC66B98F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4F9B-6A69-4DBC-A44C-C04B9F41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7692-338E-41AE-80E0-2F94E483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9E94-BDA9-4537-900B-273C75CB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D78B-787C-4A21-B28C-13904182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0076-22FC-46F8-B244-A84F7EFF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1E2C-1F64-45EF-804F-36F03060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1667-582D-4C51-AF37-76A834D1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092C-C509-4E9F-8475-84A11D33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5244-6799-4F78-9901-7F3EA93F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EE89-5340-4BFE-A262-DB9C673B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C13F-941E-40B7-93F5-EB29861D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B6E2-FAA6-4652-906C-9DED59A9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2B60-5CC6-4E2F-B7B7-AC478AC1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3C8F-CED7-49A1-AF0E-E0AE4C27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E541C-F598-42D3-B31D-5EF1E26F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0183F-3542-4EFB-8FA1-2E4A337C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92B49-FE3A-4F29-9119-E116603E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F2417-EA0F-4A0E-94A2-8D9B7151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405CD-F277-42A7-B368-E665A551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042C-9E31-45FD-A6C5-12FAE77B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F71D8-F43A-4E15-8E94-72563BCC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8936C-2EDA-4662-9A25-1D4CF8B4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1D760-0B02-4B84-B881-35DF9362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6C386-6469-4E7E-AFFA-9D869D77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C404E-1FC7-45D9-968E-D6424A9B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B2245-5331-40D2-9ABD-50B61FA5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B4BE9-D900-44F5-B2B0-B939E433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BCF4D-9E61-4F87-BFFD-64A7A552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6FFD0-8697-45BB-A5ED-68ED1133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83FE3-D5FC-4190-9527-8C293202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C507-ED8A-4749-A341-F17EA6AE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51763-2AFD-4039-B4FD-A1D40E66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004CB-991B-4369-B10A-DA5E2E9B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773ED-59E8-4527-8575-98E0A81E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6CE46-3403-4D0A-B934-8464C250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82C88-7BDD-4A33-B7C0-7A6A1AB9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0216B-F954-4145-90DD-6BC4A2AA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EEB2D-6730-49FC-A833-023D724D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50932-2B71-46D7-A935-53049CE6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989F3-7E13-4059-99D9-15071A25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136B-AD61-4427-A6E3-1C51CDB9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FE4C-97FA-4300-9C2E-DF846954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5D54-B3EC-49E8-A8E2-A42A01C7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4E81-3604-409C-B94E-375B171E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CA52-E169-4869-BF17-398BC1A6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4F64-C6B1-48C2-8530-B4AEA25AFDE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6C32-72EE-48E0-BD8E-626898D065FA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C67D-2283-46AA-BCFB-9093624E1516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E94C-590A-4865-B4F2-1E4CDEC0C81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wo types of Observ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912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Constantia"/>
              </a:rPr>
              <a:t>Qua</a:t>
            </a:r>
            <a:r>
              <a:rPr b="0" lang="en-US" sz="4800" spc="-1" strike="noStrike">
                <a:solidFill>
                  <a:srgbClr val="ff0000"/>
                </a:solidFill>
                <a:latin typeface="Constantia"/>
              </a:rPr>
              <a:t>l</a:t>
            </a:r>
            <a:r>
              <a:rPr b="0" lang="en-US" sz="4800" spc="-1" strike="noStrike">
                <a:solidFill>
                  <a:srgbClr val="00ff00"/>
                </a:solidFill>
                <a:latin typeface="Constantia"/>
              </a:rPr>
              <a:t>itative – Quality – like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Constantia"/>
              </a:rPr>
              <a:t>                      </a:t>
            </a:r>
            <a:r>
              <a:rPr b="0" lang="en-US" sz="4800" spc="-1" strike="noStrike">
                <a:solidFill>
                  <a:srgbClr val="00ff00"/>
                </a:solidFill>
                <a:latin typeface="Constantia"/>
              </a:rPr>
              <a:t>your senses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Constantia"/>
              </a:rPr>
              <a:t>Qua</a:t>
            </a:r>
            <a:r>
              <a:rPr b="0" lang="en-US" sz="4800" spc="-1" strike="noStrike">
                <a:solidFill>
                  <a:srgbClr val="ff0000"/>
                </a:solidFill>
                <a:latin typeface="Constantia"/>
              </a:rPr>
              <a:t>n</a:t>
            </a:r>
            <a:r>
              <a:rPr b="0" lang="en-US" sz="4800" spc="-1" strike="noStrike">
                <a:solidFill>
                  <a:srgbClr val="00ff00"/>
                </a:solidFill>
                <a:latin typeface="Constantia"/>
              </a:rPr>
              <a:t>titative – n for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Constantia"/>
              </a:rPr>
              <a:t>                        </a:t>
            </a:r>
            <a:r>
              <a:rPr b="0" lang="en-US" sz="4800" spc="-1" strike="noStrike">
                <a:solidFill>
                  <a:srgbClr val="00ff00"/>
                </a:solidFill>
                <a:latin typeface="Constantia"/>
              </a:rPr>
              <a:t>numbers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158760" y="152280"/>
            <a:ext cx="871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Arial"/>
                <a:ea typeface="ＭＳ Ｐゴシック"/>
              </a:rPr>
              <a:t>Qualitative vs Quantitative Da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04920" y="1071720"/>
          <a:ext cx="8534160" cy="5505120"/>
        </p:xfrm>
        <a:graphic>
          <a:graphicData uri="http://schemas.openxmlformats.org/drawingml/2006/table">
            <a:tbl>
              <a:tblPr/>
              <a:tblGrid>
                <a:gridCol w="3962160"/>
                <a:gridCol w="4572000"/>
              </a:tblGrid>
              <a:tr h="553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alitative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verview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ls with description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can be observed but  not measur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s, textures, smells, tastes, appearance, beauty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 → Qu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antitative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verview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ls with numbe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which can be measur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, height, area, volume, weight, speed, time, temperature, humidity, sound levels, cost, members, ages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 → Quantity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1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Qualitative Observ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120" y="1447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ff00"/>
                </a:solidFill>
                <a:latin typeface="Comic Sans MS"/>
              </a:rPr>
              <a:t>Hard to measure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ff00"/>
                </a:solidFill>
                <a:latin typeface="Comic Sans MS"/>
              </a:rPr>
              <a:t>Describes the qualities or feelings of something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9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ff00"/>
                </a:solidFill>
                <a:latin typeface="Comic Sans MS"/>
              </a:rPr>
              <a:t>Color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9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ff00"/>
                </a:solidFill>
                <a:latin typeface="Comic Sans MS"/>
              </a:rPr>
              <a:t>Taste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9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ff00"/>
                </a:solidFill>
                <a:latin typeface="Comic Sans MS"/>
              </a:rPr>
              <a:t>Sound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Quantitative Observ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00"/>
                </a:solidFill>
                <a:latin typeface="Comic Sans MS"/>
              </a:rPr>
              <a:t>Can be expressed in numb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00"/>
                </a:solidFill>
                <a:latin typeface="Comic Sans MS"/>
              </a:rPr>
              <a:t>Can be counted or measur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Amoun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Mas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Length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00"/>
                </a:solidFill>
                <a:latin typeface="Comic Sans MS"/>
              </a:rPr>
              <a:t>Allow us to communicate specif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00"/>
                </a:solidFill>
                <a:latin typeface="Comic Sans MS"/>
              </a:rPr>
              <a:t>Tools are used to communicate da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00"/>
                </a:solidFill>
                <a:latin typeface="Comic Sans MS"/>
              </a:rPr>
              <a:t>Observations are collected in data t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304920" y="2362320"/>
          <a:ext cx="8839080" cy="4064040"/>
        </p:xfrm>
        <a:graphic>
          <a:graphicData uri="http://schemas.openxmlformats.org/drawingml/2006/table">
            <a:tbl>
              <a:tblPr/>
              <a:tblGrid>
                <a:gridCol w="4752720"/>
                <a:gridCol w="4086360"/>
              </a:tblGrid>
              <a:tr h="40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xample 1:  Oil Pain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 dat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red/green color, gold fr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smells old and mus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texture shows brush strokes of o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a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masterful brush strok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xample 1:  Oil Pain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 dat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picture is 10" by 14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ith frame 14" by 18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 weighs 8.5 pou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rface area of painting is 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q. i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cost $3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1" name="Picture 62" descr="MCj00975430000[1]"/>
          <p:cNvPicPr/>
          <p:nvPr/>
        </p:nvPicPr>
        <p:blipFill>
          <a:blip r:embed="rId1"/>
          <a:stretch/>
        </p:blipFill>
        <p:spPr>
          <a:xfrm>
            <a:off x="3581280" y="304920"/>
            <a:ext cx="2097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304920" y="2895480"/>
          <a:ext cx="8839080" cy="4521240"/>
        </p:xfrm>
        <a:graphic>
          <a:graphicData uri="http://schemas.openxmlformats.org/drawingml/2006/table">
            <a:tbl>
              <a:tblPr/>
              <a:tblGrid>
                <a:gridCol w="4752720"/>
                <a:gridCol w="4086360"/>
              </a:tblGrid>
              <a:tr h="452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xample 2:  La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 dat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robust ar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frothy appear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 strong tas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glass cu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 brown 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xample 2:  La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 dat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12 ounces of la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serving temperature 65</a:t>
                      </a:r>
                      <a:r>
                        <a:rPr b="1" lang="en-US" sz="2000" spc="-1" strike="noStrike" baseline="30000">
                          <a:solidFill>
                            <a:srgbClr val="ff0000"/>
                          </a:solidFill>
                          <a:latin typeface="Lucida Grande"/>
                        </a:rPr>
                        <a:t>0 C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serving cup 10 cms 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e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cost 1,250 colon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3" name="Picture 43" descr="MPj04387400000[1]"/>
          <p:cNvPicPr/>
          <p:nvPr/>
        </p:nvPicPr>
        <p:blipFill>
          <a:blip r:embed="rId1"/>
          <a:stretch/>
        </p:blipFill>
        <p:spPr>
          <a:xfrm>
            <a:off x="2133720" y="228600"/>
            <a:ext cx="3828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304920" y="2514600"/>
          <a:ext cx="8839080" cy="4064040"/>
        </p:xfrm>
        <a:graphic>
          <a:graphicData uri="http://schemas.openxmlformats.org/drawingml/2006/table">
            <a:tbl>
              <a:tblPr/>
              <a:tblGrid>
                <a:gridCol w="4752720"/>
                <a:gridCol w="4086360"/>
              </a:tblGrid>
              <a:tr h="408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xample 3:  Freshman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 dat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gla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pink ha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gir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positive sm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xample 3:  Freshman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 dat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28 stud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16 girls, 12 b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68% on honor ro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150 students accelerated 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thematic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5" name="Picture 38" descr="MPj04386340000[1]"/>
          <p:cNvPicPr/>
          <p:nvPr/>
        </p:nvPicPr>
        <p:blipFill>
          <a:blip r:embed="rId1"/>
          <a:stretch/>
        </p:blipFill>
        <p:spPr>
          <a:xfrm>
            <a:off x="1447920" y="533520"/>
            <a:ext cx="640080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4" descr=""/>
          <p:cNvPicPr/>
          <p:nvPr/>
        </p:nvPicPr>
        <p:blipFill>
          <a:blip r:embed="rId1"/>
          <a:stretch/>
        </p:blipFill>
        <p:spPr>
          <a:xfrm>
            <a:off x="1219320" y="0"/>
            <a:ext cx="6553080" cy="4572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2"/>
          <p:cNvSpPr/>
          <p:nvPr/>
        </p:nvSpPr>
        <p:spPr>
          <a:xfrm>
            <a:off x="0" y="474336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Arial"/>
                <a:ea typeface="ＭＳ Ｐゴシック"/>
              </a:rPr>
              <a:t>Make one qualitative observation about the picture abo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xplain why this is a qualitative observ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ke one quantitative observation about the picture abo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xplain why this is a quantitative observ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"/>
          <p:cNvSpPr/>
          <p:nvPr/>
        </p:nvSpPr>
        <p:spPr>
          <a:xfrm>
            <a:off x="228600" y="470376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ke one qualitative observation about the picture abo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xplain why this is a qualitative observ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ke one quantitative observation about the picture abo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xplain why this is a quantitative observ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23:22:16Z</dcterms:created>
  <dc:creator>Thomas Jefferson</dc:creator>
  <dc:description/>
  <dc:language>en-US</dc:language>
  <cp:lastModifiedBy>Jeremy Rasik</cp:lastModifiedBy>
  <dcterms:modified xsi:type="dcterms:W3CDTF">2016-08-31T18:05:29Z</dcterms:modified>
  <cp:revision>27</cp:revision>
  <dc:subject/>
  <dc:title>PowerPoint Presentation</dc:title>
</cp:coreProperties>
</file>